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6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B5DA-499C-43C6-A3DB-7EDF8747E76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DISTANCES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Princi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ic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ru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he last two methods relate quantities that are independent of distance to quantities that depend on distanc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DISTANCES IN ASTRONOM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ic Princip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ometric metho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c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ru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he last two methods relate quantities that are independent of distance to quantities that depend on distanc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Theory of Relativity (S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(in vacuum):     c = 300,000 k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cy of the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ight: Michelson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ley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al or object can travel faster than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he ultimate speed limit!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Theory of Relativity (S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of light (in vacuum):     c = 300,000 km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tancy of the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light: Michelson &amp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ley experi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signal or object can travel faster than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he ultimate speed limit!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Princ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of light is the same to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s of physics are the same to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ble Consequ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ultaneity is a relative con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: moving rulers appear to be 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dilation: moving clocks appear to run s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mass (inertia) of an object increases as its        speed increases (impossible to accelerate it up to 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of mass and energy:    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Theory of Relativity (S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ic Princi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peed of light is the same to all obser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aws of physics are the same to all obser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ble Consequ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ultaneity is a relative conce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: moving rulers appear to be sh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dilation: moving clocks appear to run s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pparent mass (inertia) of an object increases as its        speed increases (impossible to accelerate it up to 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ivalence of mass and energy:    E = mc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Theory of Relativity (S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relativistic effects are important when the SPEED of an object is CLOSE TO THE SPEED OF LIGHT:    v ≈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relativistic effects are important when the SPEED of an object is CLOSE TO THE SPEED OF LIGHT:    v ≈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ultaneity and time are relative, not ab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on Jones sees A flash before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on Jones sees A and B flash simultaneous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ultaneity and time are relative, not absol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ion Jones sees A flash before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ion Jones sees A and B flash simultaneous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the length of a moving objec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(i.e., measured) length of a moving object is shorter than the “true” length (measured when the object is at re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the length of a moving objec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pparent (i.e., measured) length of a moving object is shorter than the “true” length (measured when the object is at res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time on a moving clock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Di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ving clock runs slower than its counterpart at 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onary C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C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time on a moving clock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Di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moving clock runs slower than its counterpart at r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ionary C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ing C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age Attendant’s Per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arage Attendant’s Persp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  The driver and garage attendant do not agree on the question of whether the two doors were closed simultaneous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iver’s Per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:  The driver and garage attendant do not agree on the question of whether the two doors were closed simultaneous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river’s Persp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 in the laboratory witnesses time dila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Uranium atoms “witness” length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al Laboratory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 Verification of Time Dilation and Length Contraction as Predicted by the Special Theory of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of fast-moving Uraniu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itably placed Geiger 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of Uraniu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cientist in the laboratory witnesses time dilatio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le the Uranium atoms “witness” length con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eal Laboratory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rect Verification of Time Dilation and Length Contraction as Predicted by the Special Theory of Relati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of fast-moving Uranium ato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itably placed Geiger cou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ar fission of Uranium ato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Theory of Relativity (G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nciple of Equival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bjects experience the same motion in a gi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field, irrespective of their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Galileo's experiment at the leaning tower of Pisa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field   &lt;===&gt;   Accelerated reference fr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can be thought of as a distortion of space-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Theory of Relativity (G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nciple of Equival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experience the same motion in a giv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, irrespective of their m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Galileo's experiment at the leaning tower of Pisa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   &lt;===&gt;   Accelerated reference fr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can be thought of as a distortion of space-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ax and Prope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size: degree [º], arcminute ['], arcsecond ["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[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rcseconds] = 206265 (L/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size;   L = linear (or “true”) size;   D =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: parallax (p), Astronomical Unit [AU], parsec [p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[in parsec] = 1/p [in arcsecond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1 pc  =  206265 AU  =  3.26 light y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ax can only be used on nearby stars (D &lt; 100 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tmospheric blurring (seeing);  Hipparcos satellit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bble Space Telescop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llax and Prope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ize: degree [º], arcminute ['], arcsecond ["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θ [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rcseconds] = 206265 (L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θ =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ize;   L = linear (or “true”) size;   D = dis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: parallax (p), Astronomical Unit [AU], parsec [pc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 [in parsec] = 1/p [in arcsecond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1 pc  =  206265 AU  =  3.26 light y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llax can only be used on nearby stars (D &lt; 100 p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Atmospheric blurring (seeing);  Hipparcos satellit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 Space Telescop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ble Consequences of G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helion precession of 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bend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ble Consequences of GT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helion precession of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bending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eclipse experi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lens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imag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distor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Redsh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Extreme case: ligh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pped” in a black hol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lensing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e image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distor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Red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Extreme case: light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pped” in a black hol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relativistic effects are important in a STRONG GRAVITATIONAL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relativistic effects are important in a STRONG GRAVITATION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stars within a 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 motion [arcsec/s]  =  change of angular 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-of-sight motion [km/s] - measured via Doppler sh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ison of average stellar proper motion in cluster with average line-of-sight speed yields distance to 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on of stars within a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er motion [arcsec/s]  =  change of angular 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-of-sight motion [km/s] - measured via Doppler 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arison of average stellar proper motion in cluster with average line-of-sight speed yields distance to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and Fl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se square law:     f  =  L / (4πD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f = flux [erg/s/cm2];   L = luminosity [erg/s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distance [c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itude scale: brightnesses of astronomical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uminosity and Fl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se square law:     f  =  L / (4πD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f = flux [erg/s/cm2];   L = luminosity [erg/s]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 = distance [cm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itude scale: brightnesses of astronomical sour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 and Ru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: Cepheids and RR Lyra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-luminosity relation; measure P &amp; infer L; measure f &amp; infer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standard candles: brightest red giants, HII region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ary nebulae, supernovae, globular cluster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: Luminosity is seen to be correlated with the typical speed of internal motion of stars and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ully-Fisher relation:  rotation of disks of spir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Faber-Jackson relation:  random stellar motion in elliptic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: Size correlated with typical speed of (random) 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Dn-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on for elliptic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Candles and Ru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able stars: Cepheids and RR Lyrae st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od-luminosity relation; measure P &amp; infer L; measure f &amp; infer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standard candles: brightest red giants, HII region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etary nebulae, supernovae, globular cluster lumino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axies: Luminosity is seen to be correlated with the typical speed of internal motion of stars and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ully-Fisher relation:  rotation of disks of spir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Faber-Jackson relation:  random stellar motion in elliptic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axies: Size correlated with typical speed of (random) stella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Dn-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σ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 for elliptic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shift as Distance Indic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bble's law:       v = H0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H0 = Hubble constant [km/s/Mp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shift used to measure recession veloc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≈ c (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λ / 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λ/λ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ional change in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dshift as Distance Indic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sion of the Univer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's law:       v = H0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H0 = Hubble constant [km/s/Mpc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ppler shift used to measure recession velocit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≈ c (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Δλ / λ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Δλ/λ =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actional change in 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ical Distance Lad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tronomical Distance Lad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3755-AA1A-4C66-9446-4CE66227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2B8F-8BDC-4932-9DBB-27A29F4C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C87C-D70F-4A76-A4A1-3C4F7148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770-FEB5-4A00-8AB1-B8B5C7EA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2B11-43F7-4A64-A08B-876D44DF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FD96-727C-4FEE-8F02-9659F79C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2CA0-8D62-4BB2-AE41-BBC068C6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40EC-4E89-4BDB-ABF0-4F9FAD89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ED5A-CCD0-4BB7-8F0A-918EA92C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3EAA-5017-4DB1-9FDD-5F91C6D0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AA5A-D6F1-4736-AB5E-ECB0B06C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D9A-56D8-4404-9427-91ACA76C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14AD-EC12-40A3-BDE6-365EA49B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81F0-DA3F-4DA1-A52E-9F5A293C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98C6-D1B2-444E-BEE2-BF7935CF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6CFE-6DDB-4AF0-BA92-55420EFC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FA5A-4E54-4E42-8429-13220279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DBE3-6873-4102-87A0-E061FCEE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8049-E7D6-4749-98E7-A6CEB5C2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849-D8B3-4B6B-93C0-250EDA01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9213-54E0-4B55-A306-5F633226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DA1B-F328-4D2F-B7C9-756133E7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00C5-C256-424F-9608-D55552E7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228-A010-4586-B5C5-E630F75D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177B-2DAF-48A2-8F0A-611201A9F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7192-EE5E-4F0E-A554-1377D0D8F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DISTANCES IN ASTRONOM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 Princip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Geometric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ndard cand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ndard ru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the last two methods relate quantities that are independent of distance to quantities that depend on distanc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pecial Theory of Relativity (S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ed of light (in vacuum):     c = 300,000 k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ancy of the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light: Michelson &amp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ley 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signal or object can travel faster than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The ultimate speed limit!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C:\WINDOWS\Desktop\ay2-f04\Week 3\litespd.gif"/>
          <p:cNvPicPr/>
          <p:nvPr/>
        </p:nvPicPr>
        <p:blipFill>
          <a:blip r:embed="rId1"/>
          <a:stretch/>
        </p:blipFill>
        <p:spPr>
          <a:xfrm>
            <a:off x="7335720" y="4495680"/>
            <a:ext cx="1481400" cy="1981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WINDOWS\Desktop\ay2-f04\Week 3\mmexp.gif"/>
          <p:cNvPicPr/>
          <p:nvPr/>
        </p:nvPicPr>
        <p:blipFill>
          <a:blip r:embed="rId2"/>
          <a:stretch/>
        </p:blipFill>
        <p:spPr>
          <a:xfrm>
            <a:off x="4572000" y="2057400"/>
            <a:ext cx="3753000" cy="22208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Basic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peed of light is the same to all ob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ws of physics are the same to all ob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Observable Consequ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taneity is a relative 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 contraction: moving rulers appear to be sh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dilation: moving clocks appear to run s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pparent mass (inertia) of an object increases as its        speed increases (impossible to accelerate it up to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ivalence of mass and energy:    E = m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pecial Theory of Relativity (S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447920" y="198108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Special relativistic effects are important when the SPEED of an object is CLOSE TO THE SPEED OF LIGHT:    v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≈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multaneity and time are relative, not absolut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80880" y="6095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ion Jones sees A flash before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6" descr="C:\Documents and Settings\Conference Room Lpt\Desktop\ay2_ppt\jones01.jpg"/>
          <p:cNvPicPr/>
          <p:nvPr/>
        </p:nvPicPr>
        <p:blipFill>
          <a:blip r:embed="rId1"/>
          <a:stretch/>
        </p:blipFill>
        <p:spPr>
          <a:xfrm>
            <a:off x="3657600" y="1203480"/>
            <a:ext cx="1981080" cy="131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:\Documents and Settings\Conference Room Lpt\Desktop\ay2_ppt\jones03.jpg"/>
          <p:cNvPicPr/>
          <p:nvPr/>
        </p:nvPicPr>
        <p:blipFill>
          <a:blip r:embed="rId2"/>
          <a:srcRect l="24895" t="5294" r="3561" b="10601"/>
          <a:stretch/>
        </p:blipFill>
        <p:spPr>
          <a:xfrm>
            <a:off x="3886200" y="3538440"/>
            <a:ext cx="1571760" cy="24782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380880" y="25146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ion Jones sees A and B flash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12"/>
          <p:cNvGrpSpPr/>
          <p:nvPr/>
        </p:nvGrpSpPr>
        <p:grpSpPr>
          <a:xfrm>
            <a:off x="838080" y="1600200"/>
            <a:ext cx="7467840" cy="459720"/>
            <a:chOff x="838080" y="1600200"/>
            <a:chExt cx="7467840" cy="459720"/>
          </a:xfrm>
        </p:grpSpPr>
        <p:sp>
          <p:nvSpPr>
            <p:cNvPr id="151" name="Text Box 9"/>
            <p:cNvSpPr/>
            <p:nvPr/>
          </p:nvSpPr>
          <p:spPr>
            <a:xfrm>
              <a:off x="838080" y="1600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7696080" y="1600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Group 13"/>
          <p:cNvGrpSpPr/>
          <p:nvPr/>
        </p:nvGrpSpPr>
        <p:grpSpPr>
          <a:xfrm>
            <a:off x="838080" y="4267080"/>
            <a:ext cx="7467840" cy="459720"/>
            <a:chOff x="838080" y="4267080"/>
            <a:chExt cx="7467840" cy="459720"/>
          </a:xfrm>
        </p:grpSpPr>
        <p:sp>
          <p:nvSpPr>
            <p:cNvPr id="154" name="Text Box 14"/>
            <p:cNvSpPr/>
            <p:nvPr/>
          </p:nvSpPr>
          <p:spPr>
            <a:xfrm>
              <a:off x="838080" y="4267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7696080" y="4267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the length of a moving object:</a:t>
            </a:r>
            <a:br>
              <a:rPr sz="3200"/>
            </a:b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Length Contractio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295280" y="5181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pparent (i.e., measured) length of a moving object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or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n the “true” length (measured when the object is at re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13" descr="C:\Documents and Settings\Conference Room Lpt\Desktop\ay2_ppt\fish.jpg"/>
          <p:cNvPicPr/>
          <p:nvPr/>
        </p:nvPicPr>
        <p:blipFill>
          <a:blip r:embed="rId1"/>
          <a:stretch/>
        </p:blipFill>
        <p:spPr>
          <a:xfrm>
            <a:off x="4038480" y="160020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160" name="Line 15"/>
          <p:cNvSpPr/>
          <p:nvPr/>
        </p:nvSpPr>
        <p:spPr>
          <a:xfrm flipV="1">
            <a:off x="4114800" y="3809880"/>
            <a:ext cx="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16" descr="C:\Documents and Settings\Conference Room Lpt\Desktop\ay2_ppt\fish.jpg"/>
          <p:cNvPicPr/>
          <p:nvPr/>
        </p:nvPicPr>
        <p:blipFill>
          <a:blip r:embed="rId2"/>
          <a:stretch/>
        </p:blipFill>
        <p:spPr>
          <a:xfrm>
            <a:off x="2057400" y="160020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162" name="Line 17"/>
          <p:cNvSpPr/>
          <p:nvPr/>
        </p:nvSpPr>
        <p:spPr>
          <a:xfrm flipV="1">
            <a:off x="5105520" y="3809880"/>
            <a:ext cx="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time on a moving clock:</a:t>
            </a:r>
            <a:br>
              <a:rPr sz="3200"/>
            </a:b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Time Dilatio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57200" y="5867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oving clock run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lo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n its counterpart at 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1752480" y="1523520"/>
            <a:ext cx="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2057400" y="1523880"/>
            <a:ext cx="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8" descr="C:\Program Files\Microsoft Office\Clipart\standard\stddir3\NA01652_.wmf"/>
          <p:cNvPicPr/>
          <p:nvPr/>
        </p:nvPicPr>
        <p:blipFill>
          <a:blip r:embed="rId1"/>
          <a:stretch/>
        </p:blipFill>
        <p:spPr>
          <a:xfrm>
            <a:off x="1522440" y="4038480"/>
            <a:ext cx="739800" cy="743040"/>
          </a:xfrm>
          <a:prstGeom prst="rect">
            <a:avLst/>
          </a:prstGeom>
          <a:ln w="0">
            <a:noFill/>
          </a:ln>
        </p:spPr>
      </p:pic>
      <p:sp>
        <p:nvSpPr>
          <p:cNvPr id="169" name="Line 9"/>
          <p:cNvSpPr/>
          <p:nvPr/>
        </p:nvSpPr>
        <p:spPr>
          <a:xfrm>
            <a:off x="1600200" y="1371600"/>
            <a:ext cx="5335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711360" y="4876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tionary 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5181480" y="4876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ing 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Group 16"/>
          <p:cNvGrpSpPr/>
          <p:nvPr/>
        </p:nvGrpSpPr>
        <p:grpSpPr>
          <a:xfrm>
            <a:off x="4419720" y="1371600"/>
            <a:ext cx="739800" cy="3409920"/>
            <a:chOff x="4419720" y="1371600"/>
            <a:chExt cx="739800" cy="3409920"/>
          </a:xfrm>
        </p:grpSpPr>
        <p:pic>
          <p:nvPicPr>
            <p:cNvPr id="173" name="Picture 12" descr="C:\Program Files\Microsoft Office\Clipart\standard\stddir3\NA01652_.wmf"/>
            <p:cNvPicPr/>
            <p:nvPr/>
          </p:nvPicPr>
          <p:blipFill>
            <a:blip r:embed="rId2"/>
            <a:stretch/>
          </p:blipFill>
          <p:spPr>
            <a:xfrm>
              <a:off x="4419720" y="403848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13"/>
            <p:cNvSpPr/>
            <p:nvPr/>
          </p:nvSpPr>
          <p:spPr>
            <a:xfrm>
              <a:off x="4521240" y="137160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Group 17"/>
          <p:cNvGrpSpPr/>
          <p:nvPr/>
        </p:nvGrpSpPr>
        <p:grpSpPr>
          <a:xfrm>
            <a:off x="5994360" y="1365120"/>
            <a:ext cx="739800" cy="3409920"/>
            <a:chOff x="5994360" y="1365120"/>
            <a:chExt cx="739800" cy="3409920"/>
          </a:xfrm>
        </p:grpSpPr>
        <p:pic>
          <p:nvPicPr>
            <p:cNvPr id="176" name="Picture 18" descr="C:\Program Files\Microsoft Office\Clipart\standard\stddir3\NA01652_.wmf"/>
            <p:cNvPicPr/>
            <p:nvPr/>
          </p:nvPicPr>
          <p:blipFill>
            <a:blip r:embed="rId3"/>
            <a:stretch/>
          </p:blipFill>
          <p:spPr>
            <a:xfrm>
              <a:off x="5994360" y="403200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19"/>
            <p:cNvSpPr/>
            <p:nvPr/>
          </p:nvSpPr>
          <p:spPr>
            <a:xfrm>
              <a:off x="6095880" y="136512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Group 20"/>
          <p:cNvGrpSpPr/>
          <p:nvPr/>
        </p:nvGrpSpPr>
        <p:grpSpPr>
          <a:xfrm>
            <a:off x="7566120" y="1365120"/>
            <a:ext cx="739800" cy="3409920"/>
            <a:chOff x="7566120" y="1365120"/>
            <a:chExt cx="739800" cy="3409920"/>
          </a:xfrm>
        </p:grpSpPr>
        <p:pic>
          <p:nvPicPr>
            <p:cNvPr id="179" name="Picture 21" descr="C:\Program Files\Microsoft Office\Clipart\standard\stddir3\NA01652_.wmf"/>
            <p:cNvPicPr/>
            <p:nvPr/>
          </p:nvPicPr>
          <p:blipFill>
            <a:blip r:embed="rId4"/>
            <a:stretch/>
          </p:blipFill>
          <p:spPr>
            <a:xfrm>
              <a:off x="7566120" y="403200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22"/>
            <p:cNvSpPr/>
            <p:nvPr/>
          </p:nvSpPr>
          <p:spPr>
            <a:xfrm>
              <a:off x="7667640" y="136512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Line 23"/>
          <p:cNvSpPr/>
          <p:nvPr/>
        </p:nvSpPr>
        <p:spPr>
          <a:xfrm flipV="1">
            <a:off x="4876920" y="1523520"/>
            <a:ext cx="144756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6400800" y="1523880"/>
            <a:ext cx="144792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3"/>
          <p:cNvGrpSpPr/>
          <p:nvPr/>
        </p:nvGrpSpPr>
        <p:grpSpPr>
          <a:xfrm>
            <a:off x="5334120" y="2451240"/>
            <a:ext cx="3047760" cy="1627200"/>
            <a:chOff x="5334120" y="2451240"/>
            <a:chExt cx="3047760" cy="1627200"/>
          </a:xfrm>
        </p:grpSpPr>
        <p:pic>
          <p:nvPicPr>
            <p:cNvPr id="185" name="Picture 3" descr="C:\WINDOWS\Desktop\ay2-f04\Week 3\Delorean_Seitlich.jpg"/>
            <p:cNvPicPr/>
            <p:nvPr/>
          </p:nvPicPr>
          <p:blipFill>
            <a:blip r:embed="rId1"/>
            <a:srcRect l="0" t="22505" r="0" b="18757"/>
            <a:stretch/>
          </p:blipFill>
          <p:spPr>
            <a:xfrm>
              <a:off x="5334120" y="2971800"/>
              <a:ext cx="30477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6"/>
            <p:cNvSpPr/>
            <p:nvPr/>
          </p:nvSpPr>
          <p:spPr>
            <a:xfrm>
              <a:off x="5689440" y="245124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tationary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20"/>
          <p:cNvGrpSpPr/>
          <p:nvPr/>
        </p:nvGrpSpPr>
        <p:grpSpPr>
          <a:xfrm>
            <a:off x="1600200" y="2286000"/>
            <a:ext cx="1752480" cy="1591560"/>
            <a:chOff x="1600200" y="2286000"/>
            <a:chExt cx="1752480" cy="1591560"/>
          </a:xfrm>
        </p:grpSpPr>
        <p:pic>
          <p:nvPicPr>
            <p:cNvPr id="188" name="Picture 21" descr="C:\WINDOWS\Desktop\ay2-f04\Week 3\Delorean_Seitlich.jpg"/>
            <p:cNvPicPr/>
            <p:nvPr/>
          </p:nvPicPr>
          <p:blipFill>
            <a:blip r:embed="rId2"/>
            <a:srcRect l="0" t="22505" r="0" b="18757"/>
            <a:stretch/>
          </p:blipFill>
          <p:spPr>
            <a:xfrm>
              <a:off x="1695240" y="2286000"/>
              <a:ext cx="15051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22"/>
            <p:cNvSpPr/>
            <p:nvPr/>
          </p:nvSpPr>
          <p:spPr>
            <a:xfrm>
              <a:off x="1600200" y="34178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Group 19"/>
          <p:cNvGrpSpPr/>
          <p:nvPr/>
        </p:nvGrpSpPr>
        <p:grpSpPr>
          <a:xfrm>
            <a:off x="4648320" y="2728800"/>
            <a:ext cx="1752480" cy="1591560"/>
            <a:chOff x="4648320" y="2728800"/>
            <a:chExt cx="1752480" cy="1591560"/>
          </a:xfrm>
        </p:grpSpPr>
        <p:pic>
          <p:nvPicPr>
            <p:cNvPr id="191" name="Picture 8" descr="C:\WINDOWS\Desktop\ay2-f04\Week 3\Delorean_Seitlich.jpg"/>
            <p:cNvPicPr/>
            <p:nvPr/>
          </p:nvPicPr>
          <p:blipFill>
            <a:blip r:embed="rId3"/>
            <a:srcRect l="0" t="22505" r="0" b="18757"/>
            <a:stretch/>
          </p:blipFill>
          <p:spPr>
            <a:xfrm>
              <a:off x="4743360" y="2728800"/>
              <a:ext cx="15051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8"/>
            <p:cNvSpPr/>
            <p:nvPr/>
          </p:nvSpPr>
          <p:spPr>
            <a:xfrm>
              <a:off x="4648320" y="38606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Thought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Length Contraction and an Apparent Parado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Garage Attendant’s Perspectiv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1219320" y="2133720"/>
            <a:ext cx="716256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1219320" y="3200400"/>
            <a:ext cx="708660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1790640" y="210816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1790640" y="316224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3124080" y="336564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3124080" y="229860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Group 15"/>
          <p:cNvGrpSpPr/>
          <p:nvPr/>
        </p:nvGrpSpPr>
        <p:grpSpPr>
          <a:xfrm>
            <a:off x="1790640" y="2209680"/>
            <a:ext cx="1333440" cy="1270080"/>
            <a:chOff x="1790640" y="2209680"/>
            <a:chExt cx="1333440" cy="1270080"/>
          </a:xfrm>
        </p:grpSpPr>
        <p:sp>
          <p:nvSpPr>
            <p:cNvPr id="201" name="Line 13"/>
            <p:cNvSpPr/>
            <p:nvPr/>
          </p:nvSpPr>
          <p:spPr>
            <a:xfrm>
              <a:off x="3124080" y="2425680"/>
              <a:ext cx="0" cy="105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Line 14"/>
            <p:cNvSpPr/>
            <p:nvPr/>
          </p:nvSpPr>
          <p:spPr>
            <a:xfrm>
              <a:off x="1790640" y="2209680"/>
              <a:ext cx="0" cy="105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09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WINDOWS\Desktop\ay2-f04\Week 3\Delorean_Seitlich.jpg"/>
          <p:cNvPicPr/>
          <p:nvPr/>
        </p:nvPicPr>
        <p:blipFill>
          <a:blip r:embed="rId1"/>
          <a:srcRect l="0" t="22505" r="0" b="18757"/>
          <a:stretch/>
        </p:blipFill>
        <p:spPr>
          <a:xfrm>
            <a:off x="5334120" y="2971800"/>
            <a:ext cx="3047760" cy="1106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2"/>
          <p:cNvSpPr/>
          <p:nvPr/>
        </p:nvSpPr>
        <p:spPr>
          <a:xfrm>
            <a:off x="380880" y="534996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driver and garage attendant d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ree on the question of whether the two doors were closed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1219320" y="2133720"/>
            <a:ext cx="716256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14"/>
          <p:cNvSpPr/>
          <p:nvPr/>
        </p:nvSpPr>
        <p:spPr>
          <a:xfrm>
            <a:off x="1219320" y="3200400"/>
            <a:ext cx="708660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Group 30"/>
          <p:cNvGrpSpPr/>
          <p:nvPr/>
        </p:nvGrpSpPr>
        <p:grpSpPr>
          <a:xfrm>
            <a:off x="1219320" y="2108160"/>
            <a:ext cx="2438280" cy="1818720"/>
            <a:chOff x="1219320" y="2108160"/>
            <a:chExt cx="2438280" cy="1818720"/>
          </a:xfrm>
        </p:grpSpPr>
        <p:sp>
          <p:nvSpPr>
            <p:cNvPr id="209" name="Text Box 4"/>
            <p:cNvSpPr/>
            <p:nvPr/>
          </p:nvSpPr>
          <p:spPr>
            <a:xfrm>
              <a:off x="1219320" y="346716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tationary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1790640" y="21081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>
              <a:off x="1790640" y="316224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>
              <a:off x="3124080" y="336564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>
              <a:off x="3124080" y="22986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667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Thought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Length Contraction and an Apparent Parado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Driver’s Perspectiv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15" name="Group 31"/>
          <p:cNvGrpSpPr/>
          <p:nvPr/>
        </p:nvGrpSpPr>
        <p:grpSpPr>
          <a:xfrm>
            <a:off x="3086280" y="2400480"/>
            <a:ext cx="2133360" cy="1729440"/>
            <a:chOff x="3086280" y="2400480"/>
            <a:chExt cx="2133360" cy="1729440"/>
          </a:xfrm>
        </p:grpSpPr>
        <p:sp>
          <p:nvSpPr>
            <p:cNvPr id="216" name="Text Box 10"/>
            <p:cNvSpPr/>
            <p:nvPr/>
          </p:nvSpPr>
          <p:spPr>
            <a:xfrm>
              <a:off x="3086280" y="36702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>
              <a:off x="3886200" y="2400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3886200" y="34797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4483080" y="35686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9"/>
            <p:cNvSpPr/>
            <p:nvPr/>
          </p:nvSpPr>
          <p:spPr>
            <a:xfrm>
              <a:off x="4483080" y="25020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Group 32"/>
          <p:cNvGrpSpPr/>
          <p:nvPr/>
        </p:nvGrpSpPr>
        <p:grpSpPr>
          <a:xfrm>
            <a:off x="4711680" y="2654280"/>
            <a:ext cx="2133360" cy="1729440"/>
            <a:chOff x="4711680" y="2654280"/>
            <a:chExt cx="2133360" cy="1729440"/>
          </a:xfrm>
        </p:grpSpPr>
        <p:sp>
          <p:nvSpPr>
            <p:cNvPr id="222" name="Text Box 33"/>
            <p:cNvSpPr/>
            <p:nvPr/>
          </p:nvSpPr>
          <p:spPr>
            <a:xfrm>
              <a:off x="4711680" y="3924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34"/>
            <p:cNvSpPr/>
            <p:nvPr/>
          </p:nvSpPr>
          <p:spPr>
            <a:xfrm>
              <a:off x="5511600" y="26542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35"/>
            <p:cNvSpPr/>
            <p:nvPr/>
          </p:nvSpPr>
          <p:spPr>
            <a:xfrm>
              <a:off x="5511600" y="37335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36"/>
            <p:cNvSpPr/>
            <p:nvPr/>
          </p:nvSpPr>
          <p:spPr>
            <a:xfrm>
              <a:off x="6108480" y="3822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Line 37"/>
            <p:cNvSpPr/>
            <p:nvPr/>
          </p:nvSpPr>
          <p:spPr>
            <a:xfrm>
              <a:off x="6108480" y="27558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Group 38"/>
          <p:cNvGrpSpPr/>
          <p:nvPr/>
        </p:nvGrpSpPr>
        <p:grpSpPr>
          <a:xfrm>
            <a:off x="6794640" y="2959200"/>
            <a:ext cx="2133360" cy="1729440"/>
            <a:chOff x="6794640" y="2959200"/>
            <a:chExt cx="2133360" cy="1729440"/>
          </a:xfrm>
        </p:grpSpPr>
        <p:sp>
          <p:nvSpPr>
            <p:cNvPr id="228" name="Text Box 39"/>
            <p:cNvSpPr/>
            <p:nvPr/>
          </p:nvSpPr>
          <p:spPr>
            <a:xfrm>
              <a:off x="6794640" y="42289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40"/>
            <p:cNvSpPr/>
            <p:nvPr/>
          </p:nvSpPr>
          <p:spPr>
            <a:xfrm>
              <a:off x="7594560" y="29592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41"/>
            <p:cNvSpPr/>
            <p:nvPr/>
          </p:nvSpPr>
          <p:spPr>
            <a:xfrm>
              <a:off x="7594560" y="4038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42"/>
            <p:cNvSpPr/>
            <p:nvPr/>
          </p:nvSpPr>
          <p:spPr>
            <a:xfrm>
              <a:off x="8191440" y="41274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43"/>
            <p:cNvSpPr/>
            <p:nvPr/>
          </p:nvSpPr>
          <p:spPr>
            <a:xfrm>
              <a:off x="8191440" y="306072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Line 21"/>
          <p:cNvSpPr/>
          <p:nvPr/>
        </p:nvSpPr>
        <p:spPr>
          <a:xfrm>
            <a:off x="5511960" y="2781360"/>
            <a:ext cx="0" cy="105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8191440" y="3187800"/>
            <a:ext cx="0" cy="105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5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380880" y="5691240"/>
            <a:ext cx="83822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scientist in the laboratory witnesse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ime dilatio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le the Uranium atoms “witness”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ength cont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Real Laboratory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Direct Verification of Time Dilation and Length Contraction as Predicted by the Special Theory of Relativit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Picture 33" descr="C:\Documents and Settings\Conference Room Lpt\Desktop\ay2_ppt\uranium.gif"/>
          <p:cNvPicPr/>
          <p:nvPr/>
        </p:nvPicPr>
        <p:blipFill>
          <a:blip r:embed="rId1"/>
          <a:srcRect l="0" t="15212" r="0" b="611"/>
          <a:stretch/>
        </p:blipFill>
        <p:spPr>
          <a:xfrm>
            <a:off x="5105520" y="1611360"/>
            <a:ext cx="2939760" cy="3252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4" descr="C:\Documents and Settings\Conference Room Lpt\Desktop\ay2_ppt\uranium.gif"/>
          <p:cNvPicPr/>
          <p:nvPr/>
        </p:nvPicPr>
        <p:blipFill>
          <a:blip r:embed="rId2"/>
          <a:srcRect l="34007" t="15212" r="20004" b="59776"/>
          <a:stretch/>
        </p:blipFill>
        <p:spPr>
          <a:xfrm>
            <a:off x="380880" y="2133720"/>
            <a:ext cx="2667240" cy="19429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7"/>
          <p:cNvSpPr/>
          <p:nvPr/>
        </p:nvSpPr>
        <p:spPr>
          <a:xfrm>
            <a:off x="380880" y="4038480"/>
            <a:ext cx="2590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eam of fast-moving Uranium ato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39"/>
          <p:cNvSpPr/>
          <p:nvPr/>
        </p:nvSpPr>
        <p:spPr>
          <a:xfrm rot="5400000">
            <a:off x="7255800" y="2915640"/>
            <a:ext cx="2590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uitably placed Geiger coun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40"/>
          <p:cNvSpPr/>
          <p:nvPr/>
        </p:nvSpPr>
        <p:spPr>
          <a:xfrm>
            <a:off x="8153280" y="1600200"/>
            <a:ext cx="0" cy="3276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41"/>
          <p:cNvSpPr/>
          <p:nvPr/>
        </p:nvSpPr>
        <p:spPr>
          <a:xfrm>
            <a:off x="5041800" y="4838760"/>
            <a:ext cx="30481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uclear fission of Uranium ato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43"/>
          <p:cNvSpPr/>
          <p:nvPr/>
        </p:nvSpPr>
        <p:spPr>
          <a:xfrm>
            <a:off x="3124080" y="3124080"/>
            <a:ext cx="1905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General Theory of Relativity (G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Principle of Equival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bjects experience the same motion in a gi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ational field, irrespective of their m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Galileo's experiment at the leaning tower of Pis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ational field   &lt;===&gt;   Accelerated reference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y can be thought of as a distortion of space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arallax and Proper Motio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gular size: degree [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, arcminute ['], arcsecond ["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[in arcseconds] = 206265 (L/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: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angular size;   L = linear (or “true”) size;   D = di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initions: parallax (p), Astronomical Unit [AU], parsec [pc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 [in parsec] = 1/p [in arcsecond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:   1 pc  =  206265 AU  =  3.26 light y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llax can only be used on nearby stars (D &lt; 100 p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Atmospheric blurring (seeing);  Hipparcos satellit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ubble Space Telescope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WINDOWS\Desktop\ay2-f04\Week 3\equiv1.gif"/>
          <p:cNvPicPr/>
          <p:nvPr/>
        </p:nvPicPr>
        <p:blipFill>
          <a:blip r:embed="rId1"/>
          <a:stretch/>
        </p:blipFill>
        <p:spPr>
          <a:xfrm>
            <a:off x="378000" y="380880"/>
            <a:ext cx="41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C:\WINDOWS\Desktop\ay2-f04\Week 3\equiv2.gif"/>
          <p:cNvPicPr/>
          <p:nvPr/>
        </p:nvPicPr>
        <p:blipFill>
          <a:blip r:embed="rId2"/>
          <a:stretch/>
        </p:blipFill>
        <p:spPr>
          <a:xfrm>
            <a:off x="4572000" y="380880"/>
            <a:ext cx="4411800" cy="2057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C:\WINDOWS\Desktop\ay2-f04\Week 3\equivalence_principle_elevator_photon.gif"/>
          <p:cNvPicPr/>
          <p:nvPr/>
        </p:nvPicPr>
        <p:blipFill>
          <a:blip r:embed="rId3"/>
          <a:stretch/>
        </p:blipFill>
        <p:spPr>
          <a:xfrm>
            <a:off x="2019240" y="2514600"/>
            <a:ext cx="5105520" cy="396396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bservable Consequences of GT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647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helion precession of Mercu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 bend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ar eclipse experi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Picture 4" descr="C:\WINDOWS\Desktop\ay2-f04\Week 3\MercPrecess.gif"/>
          <p:cNvPicPr/>
          <p:nvPr/>
        </p:nvPicPr>
        <p:blipFill>
          <a:blip r:embed="rId1"/>
          <a:srcRect l="0" t="7412" r="0" b="11849"/>
          <a:stretch/>
        </p:blipFill>
        <p:spPr>
          <a:xfrm>
            <a:off x="4876920" y="789120"/>
            <a:ext cx="4038480" cy="2447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C:\WINDOWS\Desktop\ay2-f04\Week 3\LightBend1.gif"/>
          <p:cNvPicPr/>
          <p:nvPr/>
        </p:nvPicPr>
        <p:blipFill>
          <a:blip r:embed="rId2"/>
          <a:stretch/>
        </p:blipFill>
        <p:spPr>
          <a:xfrm>
            <a:off x="228600" y="34290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C:\WINDOWS\Desktop\ay2-f04\Week 3\LightBend2.gif"/>
          <p:cNvPicPr/>
          <p:nvPr/>
        </p:nvPicPr>
        <p:blipFill>
          <a:blip r:embed="rId3"/>
          <a:stretch/>
        </p:blipFill>
        <p:spPr>
          <a:xfrm>
            <a:off x="4572000" y="34290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avitational lens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 imag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 distor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C:\WINDOWS\Desktop\ay2-f04\Week 3\Gravity_lense.jpg"/>
          <p:cNvPicPr/>
          <p:nvPr/>
        </p:nvPicPr>
        <p:blipFill>
          <a:blip r:embed="rId1"/>
          <a:stretch/>
        </p:blipFill>
        <p:spPr>
          <a:xfrm>
            <a:off x="4876920" y="22860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685800" y="274320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avitational Redsh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Extreme case: ligh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pped” in a black hol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6" descr="C:\WINDOWS\Desktop\ay2-f04\Week 3\gravitational-redshift.jpg"/>
          <p:cNvPicPr/>
          <p:nvPr/>
        </p:nvPicPr>
        <p:blipFill>
          <a:blip r:embed="rId2"/>
          <a:stretch/>
        </p:blipFill>
        <p:spPr>
          <a:xfrm>
            <a:off x="838080" y="4343400"/>
            <a:ext cx="3886200" cy="213372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447920" y="198108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General relativistic effects are important in a STRONG GRAVITATIONAL FIE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WINDOWS\Desktop\ay2-f04\Week 3\ParaDist.gif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otion of stars within a clust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 motion [arcsec/s]  =  change of angular 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e-of-sight motion [km/s] - measured via Doppler shi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ison of average stellar proper motion in cluster with average line-of-sight speed yields distance to cl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WINDOWS\Desktop\ay2-f04\Week 3\ProperMotion.gif"/>
          <p:cNvPicPr/>
          <p:nvPr/>
        </p:nvPicPr>
        <p:blipFill>
          <a:blip r:embed="rId1"/>
          <a:stretch/>
        </p:blipFill>
        <p:spPr>
          <a:xfrm>
            <a:off x="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WINDOWS\Desktop\ay2-f04\Week 3\RadialVel.gif"/>
          <p:cNvPicPr/>
          <p:nvPr/>
        </p:nvPicPr>
        <p:blipFill>
          <a:blip r:embed="rId2"/>
          <a:stretch/>
        </p:blipFill>
        <p:spPr>
          <a:xfrm>
            <a:off x="4572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Luminosity and Flux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e square law:     f  =  L / (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:   f = flux [erg/s/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;   L = luminosity [erg/s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= distance [cm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itude scale: brightnesses of astronomical 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tandard Candles and Ruler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Variable stars: Cepheids and RR Lyrae st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eriod-luminosity relation; measure P &amp; infer L; measure f &amp; infer 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ther standard candles: brightest red giants, HII regions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lanetary nebulae, supernovae, globular cluster luminos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alaxies: Luminosity is seen to be correlated with the typical speed of internal motion of stars and g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Tully-Fisher relation:  rotation of disks of spir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Faber-Jackson relation:  random stellar motion in elliptic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alaxies: Size correlated with typical speed of (random) stellar mo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D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lation for elliptic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Redshift as Distance Indicato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ansion of the Unive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bble's law:       v =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: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Hubble constant [km/s/Mpc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ppler shift used to measure recession velo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fractional change in wave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stronomical Distance Ladd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Picture 3" descr="C:\WINDOWS\Desktop\ay2-f04\Week 3\distanceladder.jpg"/>
          <p:cNvPicPr/>
          <p:nvPr/>
        </p:nvPicPr>
        <p:blipFill>
          <a:blip r:embed="rId1"/>
          <a:stretch/>
        </p:blipFill>
        <p:spPr>
          <a:xfrm>
            <a:off x="1143000" y="1143000"/>
            <a:ext cx="7188120" cy="5391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21:40:05Z</dcterms:created>
  <dc:creator>Default</dc:creator>
  <dc:description/>
  <dc:language>en-US</dc:language>
  <cp:lastModifiedBy>Legion</cp:lastModifiedBy>
  <dcterms:modified xsi:type="dcterms:W3CDTF">2017-01-26T10:17:03Z</dcterms:modified>
  <cp:revision>13</cp:revision>
  <dc:subject/>
  <dc:title>MEASURING DISTANCES IN ASTRONOMY</dc:title>
</cp:coreProperties>
</file>